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630-1F4B-428F-A473-E176ECCD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688-2481-4067-9DC2-BEBB8ED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3AB-9C12-46FD-911E-989F9A7D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1AB-694C-4314-BC30-AA09EDCE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CBA-DF67-4CF3-886F-02727204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320-CD30-4A8F-B082-761E2CF3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69FC-31C5-4F19-8D65-ED2FCEE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77C-328E-42BC-8457-C5A5741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269A-CAC6-471B-B0AF-0A13FDB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83A-6042-4385-BBF7-8582748B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D32-77E6-44E1-8BE5-E4FF8EF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F5D-593F-450B-88FE-A35A43AA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008-5D01-434D-B681-C96D162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6208-F284-482A-BA53-3350CA6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8F9-A608-495C-8AC0-5EC7C50E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F85-DD9D-44B3-A039-649B4A18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E3A-6642-4888-86A3-AC256306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23B95-D4F2-4EC7-803A-06BC875A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C484D-78BC-45BC-8BAB-06EBBA6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6615C-A670-4287-9D1C-E173E375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0110E-11BC-4F68-8F80-C3A8A55C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BEBD5-6CA5-46E7-8C29-A61F4BC5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FB9-57CF-46AC-8A94-0F431C4D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56839-F451-4E34-A8A0-69CBE128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D339E-11E9-480E-8161-9E52222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73021-84C8-41C7-858C-3ACB90B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C7750-D407-42D3-B953-464036B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45D88-1F01-426D-85DF-E1BB2C6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83F17-9D66-4F5B-AE4F-252364BA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95D7D-262E-475D-BB1E-3595C929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E3C8-7543-49B6-AF99-EB5875C7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A0B0-EA96-458B-9018-0724D8F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B496-3855-4700-91BE-CF96B9C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230-19E3-44DE-86FE-390194F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87BA-B464-4227-A89A-81242684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7712-A8CC-4725-8FEF-3F05577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4568-8D98-4102-A2F4-812F13E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9AE1-F850-470C-9299-F6A02ED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31B0-266D-4F59-96F2-C39A0C4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D2D7-5C08-47FC-87DC-B16E93C6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C468-F03E-4765-886F-A8CEBBB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F82E-9F42-45E0-B8B5-FBEF9FB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31DC-5F05-461A-AF00-B80AA43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B64-6A6D-4A68-ACD7-00EDDC9E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338-2A62-4AE2-A855-BA24268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238-660B-470C-A3C6-743B2FA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217-475D-422A-9850-8832EB0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F98-2212-431F-A0B3-695215E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28C-B98A-4F64-99C4-DB6814B91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EE2-822B-4964-96B4-66A7315035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AF86-BE6B-4FF6-A517-6E4DF30C47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E3F-3FD3-44B5-AAEB-8B9CF6E732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Crucib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rthur Mi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ohn Proct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farmer who lives outside of Salem; hates hypocris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038480"/>
            <a:ext cx="4000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izabeth Proct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John Proctor’s wife; fired Abigail William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87520" y="1828800"/>
            <a:ext cx="2092320" cy="194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614600" y="4094280"/>
            <a:ext cx="1838160" cy="160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1449360" cy="1600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igail Willi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Rev. Parris’s niece; Proctors’ former servan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anna Walcot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belongs to Abigail’s grou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39068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y War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Proctors’ new serva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rcy Lew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887400" cy="1347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057400" y="3886200"/>
            <a:ext cx="784080" cy="16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mas Putn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wealthy, influential man; has a grudge against Francis Nurs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n Putn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Thomas Putnam’s wife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given birth to eight children and only one has surviv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57880" y="1828800"/>
            <a:ext cx="2657520" cy="1943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th Putn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the only surviving Putnam child; has strange illnes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oody Osbor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midwife to Ann Putna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1317600" cy="1608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325520" cy="180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4114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becca Nur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upright, respected wom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860480" y="19000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79960" y="1900080"/>
            <a:ext cx="1413000" cy="1800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495680" y="3962520"/>
            <a:ext cx="4114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ancis Nur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Rebecca Nurse’s husband; wealthy, influential man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98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98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les Cor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John Proctor’s friend; concerned about wife’s behavi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tha Cor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Giles Corey’s wif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1714320" cy="1943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942160" y="1828800"/>
            <a:ext cx="148752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98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98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98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98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200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zekiel Che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163520" cy="1172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905120" y="1905120"/>
            <a:ext cx="21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erend H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thought to be an expert on witchcraft; sent to help the city of Sale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1523880" cy="1155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629400" y="2209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dge Danfo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284120" cy="1797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28800" y="4572000"/>
            <a:ext cx="144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dge Hatho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876920" y="2971800"/>
            <a:ext cx="887400" cy="1395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4648320" y="4495680"/>
            <a:ext cx="1073160" cy="1447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248520" y="47239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r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the marshal of Sale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ller Backgrou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ct. 17, 1915 – Feb. 10, 2005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ed of heart fail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ote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eath of a Salesma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1949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 My S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194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Crucib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195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others…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ller Background Co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aped by the 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ther was a manufactur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a warehouse in high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Michigan (began writing play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ied Marilyn Monr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he Crucibl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 an ALLEG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tten about US events in the 1600’s as an allegory to the US events of the 1950’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egory:  The representation of abstract ideas or principles by characters, figures, or events in narrative, dramatic, or pictorial for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other words:  When you tell one story to help represent what is going on with something 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he Crucibl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ET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te 1600’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lem, Massachuset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lem witch trials were taking place because of fear and accus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sed on actual historical ev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72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’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Relationship to th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50’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of Communism spreading in the 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d Sca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ld W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iggest threat was Communist Russ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98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’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Relationship to th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50’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Carthy 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arthyism – termed after Senator Joseph McCa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arthy felt that the people they summoned were anti-American and that this justified the extreme, even extra-legal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conducted internal screening programs on federal government employees conducted by the F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was an anti-Communist crusade in the early 195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ose acc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lie Chap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cille B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hur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t Dis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verend Parr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minister of the church in Sal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46280" y="1932120"/>
            <a:ext cx="1773360" cy="1736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960560" y="3924360"/>
            <a:ext cx="1146240" cy="194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724280" y="4038480"/>
            <a:ext cx="4000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ty Parr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Rev. Parris’s daughter; has strange illnes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ACTERS from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Cruc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itub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Rev. Parris’s black slave from Barbado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193680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0:30:03Z</dcterms:created>
  <dc:creator>mendezj</dc:creator>
  <dc:description/>
  <dc:language>en-US</dc:language>
  <cp:lastModifiedBy>GISD</cp:lastModifiedBy>
  <dcterms:modified xsi:type="dcterms:W3CDTF">2006-08-24T18:05:20Z</dcterms:modified>
  <cp:revision>23</cp:revision>
  <dc:subject/>
  <dc:title>The Crucible</dc:title>
</cp:coreProperties>
</file>